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B3E41F-9753-4A85-8EE0-878E735BC40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47A8CCA-BB01-4FBE-9AC9-97A391BCA9A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B1D8-2DFA-4D3F-BD28-9995C6D49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751C-124C-48CF-A1C5-16D66BDC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2EDC-C8DB-4A8E-9816-BC06F7B2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D423-0A33-407D-AC66-D884E9CCC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92AE-D457-4C38-9EC9-E746C91C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2342-8877-4002-80C4-E1C1521A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C5D6-2E4F-4EAB-92E0-EB9FF937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3972-CC8E-4280-8801-F08EE6D9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D925-215F-434A-83A7-1FEF7F44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43B4-AF0B-4A40-BFC7-C481AB79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57E1-9948-40D8-BFC3-E2DF2DE0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22B4-62AC-44B4-B88B-54E9C9C6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07B8-DA94-4DFB-B183-61C5C12E2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ný seminá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Banská Bystrica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18. apríla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 (proj. nápady, stretnut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 (aspoň 1 hlavná aktiv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 (aspoň 1 kmeň.za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 (aspoň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7120" y="1125360"/>
          <a:ext cx="8229600" cy="493272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7909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ločné aktivity na podporu ochrany prírodného prostr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né a odpadové hospodárstvo a obnoviteľné zdroje ener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štalácia zariadení zvyšujúcich energetickú účinnosť s využitím obnoviteľných zdrojov energie  na verejných budovách (školy, nemocnice, obecné úrady atď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V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36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-12636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8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CR a 1.7.1 Ľudia ľuď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          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(výsledky a výstupy)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0 EUR) – pomoc a rady poskytuje komunikačný manažér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5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zva na predkladanie projek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y Žiadosti o FP (opatrenia TUR a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na vypracovanie formuláru Žiadosti o FP (SK/HU verzia) –   IMIS príru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prijímateľa (dostupné na www.husk-cbc.eu,                       časť „Na stiahnutie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porúčaná štruktúra Štúdie uskutočniteľ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                   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</a:t>
            </a:r>
            <a:r>
              <a:rPr b="0" lang="sk-SK" sz="2400" spc="-1" strike="noStrike">
                <a:solidFill>
                  <a:srgbClr val="cc3300"/>
                </a:solidFill>
                <a:latin typeface="Arial"/>
              </a:rPr>
              <a:t>bilinguálne v HU/SK jazyko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- nie je možné doplnenie/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5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3. apríla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5 týždň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11.816.023,06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9. mája 2013 do 14:00 hod.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15. mája 2013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i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2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 </a:t>
            </a:r>
            <a:r>
              <a:rPr b="0" lang="sk-SK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TVORENÉ OBLASTI PODP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9280" y="836280"/>
            <a:ext cx="814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ita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1 Spoločné aktivity na podporu ochrany prírodného prostr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1.1 výlučne - Obnoviteľné zdroje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3 Budovanie malej dopravnej infraštruktúry, cyklistických trás a verejná d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1 Budovanie malej cezhraničnej dopravnej infraštruktúry a cyklistických t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2 Rozvoj verejnej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4 Zlepšenie cezhraničnej dostupnosti cez hraničné rie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1 Zlepšenie cezhraničnej dostupnosti cez hraničné rie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2 Štúdie a pl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504800"/>
            <a:ext cx="84963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ukončenie najneskôr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do 30.6.2015,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výnimka pre 2.1.1 (OZE)   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trvanie max. 12 m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einvestičné/soft projekty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12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štalácia zariadení, príprava plánov a štúdií uskutočniteľnosti (2.1.1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2.4.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vestičné projekty (BL5 nad 25.000EUR a/alebo BL6)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24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stavebné a rekonštrukčné práce, obnoviteľné zdroje energie, dopravná infraštruktúra (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2.1.1, 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rné delenie úloh, zodpovedností a aktiv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INCÍP VEDÚCEHO PARTN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Žiadosť o FP, PP za všetkých partne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isuje Zmluvu o pridelení FP z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stribuuje finančný príspevok z ERDF medzi partnermi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z HU aj 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uje s orgánmi Programu – SMV, RO, CO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AA, NO,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ie zodpovednosť za celkovú koordináciu a realizáciu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projektu aj za aktivity vykonávané jednotlivými partne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súhrnné žiadosti o platbu a monitorovacie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správy za celé partnerstvo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3-04-16T15:01:43Z</dcterms:modified>
  <cp:revision>135</cp:revision>
  <dc:subject/>
  <dc:title>1. dia</dc:title>
</cp:coreProperties>
</file>